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EDDEA3C-6D7E-40F9-B62D-8C49078868C7}"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A7B12DB-CE80-441D-A4A5-5C7053BFDCA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97F590B-DA62-4BAB-A028-5612CE8B182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C56FA17-6642-4A17-B1B7-ECEB0745C1C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772ED35-227E-42B2-AE33-A6B9E87B904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75E391E-D4C1-44EE-B81E-F65EC82774F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B2F0278-04D9-458C-AAB8-D971C7474A8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3EFF829-1B22-4E54-9805-54D948B8A3F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9BF0DD9-B299-476E-8D01-F7D6A1C8CA8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5861D09-B80A-417D-9EB4-499EF56D355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E44E6C3-77AF-48F5-B42D-4E3F1BEE4C8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39FF02F-71D9-4451-80C0-36647689064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86A6D60-94A9-4BBD-B68F-1A823B730E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EF49127-7FDF-446B-9944-984B18E00E8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C731D5C-A797-4E83-AE9C-AFAF58809E5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9E0BA1F-C82C-4D2C-A215-464AC024B51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872651B-67D9-4892-94A6-B91FFD1B93D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9CBC727-987C-45B8-953E-C5FFEF85F94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C7EFAAB-FB77-4BA6-AF34-82407908D88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F0E811E-D18F-496B-B5CA-36BAD94D0EF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15F3E69-48D4-4B88-A66D-22463F66A1A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EF56202-DBAE-4593-AC91-39A44C4F9FE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8300A11-52D6-476F-A7B0-01C4F903610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EEA16FA-F53F-4DC5-8982-694F1BC8676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30CECAB-EFE5-4E25-B375-DD1869904AA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87F6E69-F1D7-493F-A304-FBEA3F7D22E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18A0C89-0768-4E3C-B9B7-79F0EFC04B0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CD90270-DAB2-4327-8B4C-3429F4D71D6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AE38ADC-91FF-47B1-876E-3E8BFD0BE4D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B71FF76-0B20-449B-80E1-3913CE0CB93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E3989DF-310F-47D9-8168-FD7C04722FF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B8293E8-F786-483C-9382-0EBFF77B244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DBDE68B-3095-4048-A95E-7923D021C6F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9C903E1-53EB-456D-9D71-822D77E492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F727CBA-6EBC-4ED9-89A3-386E21713DC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13E14-3812-4FA9-87C2-F0A3AF4C29BC}"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3732D-0713-434E-ABB3-A4C0B8365E24}"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F8D481C7-4522-484B-AEDE-34B64A389DC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639BF85-8739-4280-8F57-988139238090}"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377259E-903B-4D74-98FB-EB55F15FA442}"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0C979D7-465A-401A-97CE-B8BEB673561D}"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147A53A-B1EE-4CFE-BE3A-ED039C2DABB9}"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C1991D4-8F4D-4439-AB63-C112315ABAE9}"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1A6D2B3-223B-4422-A1DC-45EFDF016B6E}"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46D1E70-643C-44EF-87F5-4291C9A9BA24}"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C7E62F4-ECFA-4FFA-8620-3939C8F01241}"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5F8292B-E3BA-43B6-9849-01D477BD2983}"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23D0F58-FCCB-4FFE-B858-903C51F9EC6B}"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6BD2F72-1976-41F2-8FED-0216E6C6E848}"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6B335FC-5C97-4E8D-98DF-5AF406F1A2ED}"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20FA8A4-D9F7-4334-842B-52D467C989C9}"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B020F20-5E7F-4F09-9C99-43CAD90DEBC1}"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4174FAD-7C8F-487F-B3CD-BFF0BF38FA9E}"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524ED25-1A71-4EE5-84DF-D932AE000294}"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CBDA2EF-7A01-4A30-94CA-FE706648F61C}"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C3F87D5A-4652-459D-9C24-BDB27BB7376D}"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97091B41-AA26-4D7D-A775-1AA0501E2CD0}"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CD4C2BF-D416-45E5-8396-CAB722F1A2C0}"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EEF6759-C794-49D8-AE82-66D0C14C9A18}"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3AA7A77-6045-4C57-AC84-BAD4DF689E5E}"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CA65E14-C217-499E-800E-5F142E4B834C}"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147CA1A-ED2E-446E-BB1B-4FF9029C254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6EA21C5-08FC-484F-9A07-B68FF6B72A51}"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BA4BE21-30A5-478B-972E-96B23693481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A30CB08-D035-4291-98FD-6CE5B254A369}"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7AB86C91-DF9E-4B5F-9A36-00FF0781978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89B6073-BC35-4DA8-9BF8-2661899D73A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9531DB7-EE08-48A4-A7B0-987C389E8B2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242813C-BC27-4D0A-969F-7DCE48868178}"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791585F-1D15-476D-9C37-FB075296CF5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0A4488D-64DD-4EAB-B4E7-10F3224F7E0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3A715F4-7FC4-41C9-AC7E-D65B296E9E6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067FEB1-8390-4402-A1A3-649C68724CF7}"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A0D4EF7-823D-47B6-AEAB-60FDD19AEA6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88C6C66-9478-4A69-8AF4-BBDEC0896AE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88F88C1-33E6-4EBF-B68F-01062E57774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4FE98C8-20A2-4204-A330-EF1ABAE4F153}"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F1870A8-33B2-4FAA-B858-F9B5D946E2C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AD3713B-ADBF-4546-A241-347DF484C80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88B6C06-9CAB-4DDE-8EAA-5FA90DDFBF1D}"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86BE515-CC08-4EFC-91BB-3638849C088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0B4B370-DA08-4D70-A03E-78176D7361A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EC69BE7-201E-4259-90F0-8DA5B762412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C6B0F37-A95D-46FB-9EF7-99DA8E6630C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704C546-637A-4468-A09A-18EF547EBAD5}"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38D152A-97CC-48C3-858C-D3E738975E03}"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1F94AE0-F60E-4B63-A411-F666BF9D87E6}"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A527552-8D45-45EC-9077-12CA6B201570}"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C06F875-83D9-48FB-A5E1-36ECDD528810}"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810949D-4215-411A-B540-2DEF56F99B92}"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B4AE51F-340F-443A-AA3F-0AAB1C7F95E4}"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A6DA609-88B1-4ED4-B019-84E2E18DDBB5}"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0A20072-5CBE-4A6C-B5B3-DC844287C4D1}"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12252CD-4930-47BB-85E0-CAB2E4A7DB43}"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C1EF494-FB54-4C38-8A5F-0D2F47471F6E}"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2979A69-AD31-48F6-8189-F668751B56D0}"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F5FEE0B-F6DC-4027-8AFC-E2C5C43F3C96}"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DE4281B-C76A-463F-B406-09D01AD282CF}"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5AA437E-36E8-43AD-A907-C3CC7B14B214}"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1532DAA-CE79-48ED-8A41-670442E4BAF2}"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9EC1765-77E6-4AE9-BE20-6A32300D8183}"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C607753-ED04-4422-8E70-37D5153DEDD7}"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DA43ED2-E1EF-4DD5-B95E-407939DF7D0B}"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821C8DB-49A0-495A-BCC6-29661148C0A5}"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0CA1BBF-8162-4BEE-9B87-3DD32D7AC72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9DEDFA3-7F6B-4827-9250-348FAE211D4B}"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FA9828E-26F1-4AAF-B924-33B3D961231D}"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E6722D0-6103-4779-82EA-35248ACD263F}"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4B36B38-3A68-4348-9A4B-A9A29A06D681}"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9C74D64-1B94-4FC1-9AFF-186F463911DB}"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D86485E-27F3-42A1-A763-5949DECA6673}"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7482A3D-5C04-4F03-8572-B3B96EDAE376}"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F1C535C-CBDF-416D-9E1D-88EEE30F68F2}"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98290FE-ACCF-4267-816C-C6489A1F8EA4}"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6B3FEC5-A2FD-4639-98C3-6625AA72ACA4}"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8BA3A85-283B-4034-9F9B-6ED765E5E8E3}"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4ED8613-6713-4E1A-8BF0-6C6A022BC838}"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230973B-CAD3-420A-AA32-A9933D7B42EA}"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84B5F39-CEFD-40C7-86AD-F4D1FDFEF8CD}"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7E38EE1-883B-4452-B30F-907241248E32}"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D4B29D3-7016-4D76-98F3-878B0AD7FFD8}"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98BABFE-9486-42EC-85AC-8A28EDBA5B49}"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61E7721-3D8C-4C0D-82E3-5BBA559423D1}"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FA48F6F-94FE-476C-A23E-F36D9CBB5FF7}"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7BB9365-4CCA-40EB-BE0B-E2D3018AABDA}"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D5315D5-BA02-4BBB-823D-F84B15F091F0}"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FABDEFF-E047-49F1-A142-33011A80CB36}"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F01FCA0-1D77-4B2E-A60E-7161920D7969}"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1BC8988-CA4C-4542-BBD7-EB2C49280818}"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76F0CB3-2D88-44F0-A951-F5EFB09D649A}"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882106F-8208-455A-952A-BBDC6DDA3091}"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66693EB-A18C-47EF-9E3F-B6DF3907CDB8}"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CDEE03D-B7E5-4A29-BA2C-6EAF9A4B3060}"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FD9D2B9-61DA-467F-8647-DDD0258C8C64}"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F754C020-5F40-4039-A594-2C6061D41FE0}"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B7E82AA-55CC-4882-AC4C-BE7E82178114}"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B1FD40C-55CF-4542-B2F4-0345C5F4A4F8}"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C0D4E01-8147-4CE9-BB0F-8AE485FA1312}"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A023069-FF18-4E69-AD88-5A1964133222}"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870AC56-C812-4A97-8C6C-8F40575B7924}"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7E400B4-CA4B-4E31-86BE-05AB53B67BCF}"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2F9547E-B108-4E04-B105-27DB3E41EAC1}"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744F8CD-D0D4-4768-B5C5-5DF973A16528}"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016F326-926E-4EC4-9606-AB10BA2158FE}"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D7F21E3-BF07-4EC5-B239-C339C5E41184}"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BED9C96-DCB4-410C-9691-47066DAC4E57}"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01D0F4CB-6A94-40C7-9F57-1F929EDAE0C0}"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F3BD337-3EB1-4F88-8C5E-E6B2CB21B26D}"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FFA4F77-3307-43BA-865A-839104A4A20C}"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EC62270-AD3F-4178-94B6-4F003BE6A10C}"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4CAE95D-A7C3-4E3E-AF7B-5E92B77C06E9}"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DAF93F7-1F12-4072-80AA-C3E720CD4AD8}"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2E726B9-15AF-49EF-AB4C-EEF217D8694A}"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A5CC94F-B9A1-424F-BD21-1C5F203AFF4B}"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C2E6703-7B66-490C-90A0-3299B5F86067}"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8A18F18-A3B9-4EF3-B4C6-2E3FA8E587C4}"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C0325EE-5C9B-49D4-85EE-3752A82AFDB4}"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3ED1D80-4482-4644-8376-5F922EC38F83}"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