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F41C64F-D240-4609-AEE0-F9F324E035E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1258BBB-CDA5-4077-B382-C91D4B1E118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6E1EF54-DA8B-49C4-8BD9-0AAACCD5E7E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23E8BB1-0F96-4E9E-B3E2-32BCA968153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322A35D-340C-41FC-83E9-C8E445223D1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7C8A088-51B6-4E22-9076-C9A77CE0C55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D0ABFAA-C8AD-4AE8-BD05-DB5ADDAA52C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AF88DEC-7778-4CED-993B-F4B2F5A1464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44CEBAB-9DE1-40D7-A34B-22ADF4D64D3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660C278-7FF2-42A0-9712-4B2CA40EAA9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2809B29-1951-46D1-A202-A926CDDD880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1F9D5B2-D8CE-4FBB-9130-D84BC0662F8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625ED0A-5207-4F2D-B4A6-B06A152230C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441CDAC-9455-4565-8B20-E750CD145D6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ACA631B-E379-4FE0-924D-61247685549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4C02C31-88A7-40FF-B5DA-64A5712CCF0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F95D335-EAE1-4575-8D52-3083A7115B2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5C74263-D557-47EA-AC6A-A138449DC72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2B30CC1-9327-4AD2-93DE-BC67F665A1F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82235F0-46C4-4966-9739-BA30EF0D081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80AC3B3-7D16-47C5-A95D-9FE87C470B3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BE103CE-CF4D-4229-A044-E1930BD12E4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A1E2B46-AEE9-4027-98C5-CB53F4F846C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2E01846-CCCF-4CF2-AD34-5571EFFB574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F313A47-2AA4-4B8C-8F8C-D2AC82E7EAB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38125A5-E39C-413C-A760-FD352542FA5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15AE27D-BCB5-4923-9341-771E50B032B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ABB8A9F-B8A9-4C21-A7CD-B4DD6207EA4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B62121A-4CF2-43DF-8544-EE3E71B1645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A11879B-E38E-4050-8F0C-A7A79048DA0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C89C524-BE1B-486E-8707-CE76394E78B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B515DF0-4D71-4959-9D3E-502688B77F4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56015D8-A495-4CAE-B693-757A9F83C9D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C0B1BC7-CF3F-4C07-AB5A-5802861C1BB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A592DE0-4D5E-47A6-834F-D8EE04C88EC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A69E740-4B91-40A1-A359-B7BE7CE388F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EAF87-988D-4F57-98E5-448BBC5AFD2E}"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8BE7D-2093-49A4-9D81-97FF6FEDB4EE}"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2A37249-0E8D-4A95-8880-AE11634D0A2E}"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CDD776F-48BD-40A6-9EA3-EC580AF4C537}"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BE9817E-FAE3-46A2-AB0C-4F90ABC38825}"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821E640-4EB4-439F-AAAF-1250B708310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B219D34-6FE5-472F-B407-54093C0C6256}"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DCE21D8-9C4A-40A5-8626-C4C51F175B59}"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463BCA5-0F6C-4CF2-834D-93EA7518F0BA}"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2E063E5-C32B-42E1-9209-4927949F3B77}"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E78F229-32D2-4EAF-945D-466136F02904}"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C47BED6-962F-4165-B7F7-8946AD4887A7}"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E94987D-D188-4B88-AE54-FD9AA6D602BE}"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6EB4209F-BFC6-4DB4-A860-7C6AF18F7FD7}"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0D21283-C6CC-40B7-8867-21266CE1806E}"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B4AEDB1-7F2A-4356-934E-DB0B8136383D}"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A8C5B78-4F19-4F25-BB19-DC6F91E6CA0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29264E4-62C7-4D25-BD49-CBECA6E452BD}"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35DA606-0A9E-4A34-B1C3-397737BDDC7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456ED7F-4774-4E15-830E-837018DB5B2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0F14B8E-B788-4884-AA1D-7D5C6E3FD3E9}"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8BFD120-F821-403E-B711-7479835B858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BE4C722-19DB-4F04-9E8C-F62C1740985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39DACDE-5A66-42C9-8C13-9590D33C3E30}"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7521D7B-8F7B-41B6-90AD-DFF38922113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1960539-3010-42DF-ADB6-3D5D334664A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137D8C8-0327-4F80-B6AF-E117376FC58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1810958-C3E1-43A2-9170-F81DF3E5867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4E6CD63-090F-4288-AA56-087D41CAAEB4}"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36755F4-2E4A-4A5B-87FD-8111AD057FE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4DBD8D0-4F74-4482-9B98-8C2D75432D9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22EFCF8-26F3-4209-8868-E17D11444030}"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48346A4-1DCC-45E1-8607-1351454B146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8AFF275-EC8B-4C9C-BE1C-23E9A22EBF7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C9BC06B-D1B4-47EC-824D-5314FCE6DF6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173301A-912D-4E1A-BF8B-7262CD02617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BD7CA34-F266-409A-B1E6-05B93BEC5A9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867C571-636C-4850-A0F4-2DCA8454CA7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7B43619-0DC6-40B9-A3A8-92F3973B5E7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58F9918-6B5B-474A-9615-C79738306F69}"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936C4C1-45FA-4747-A13A-DB61D3EA19DD}"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5226682-45AD-4203-991A-A3A3F354ED16}"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43997A8-D86B-4523-B287-438C128A42D4}"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EDF688A-BA1F-4579-92D9-3357C915236C}"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6D0D8B6-B547-4A8E-A8BE-FEE886C790A2}"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062B287-5CCD-475B-8D58-6CE7493BB37B}"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0221078-A343-4D39-8142-E8DB8DE2BFA7}"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C904CCA-21B7-4C6C-B161-776C133E4EF1}"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B70C4BC-CEDE-435E-9AEB-A52AE10EECC7}"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ED104A0-9ADA-47A1-A2E0-6092ECA5374C}"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408446A-3510-41C8-A67E-AFBBF01265A8}"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47AF19C-896A-4515-B763-33FF62D361DD}"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C7207B8-048D-4F22-9901-0151A4BFF0F8}"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255AB03-C327-4DFB-931B-285A05AEEEB7}"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201469B-5EED-464B-AF95-7A688AD45047}"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8CFCE37-E84F-4717-B028-FCA62950A21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4F80B35-3D19-4E24-A5CD-FF602DA3AE78}"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D0E8C61-228C-495A-A753-FCAEB9097B8A}"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AB1EDC2-3C20-4B37-8C98-D177DC63846A}"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4F7FB42-3B62-4469-8158-86B3061B5B52}"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6D4339E-9340-40DF-B04A-606358F7CD5C}"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22BD3EE-20E8-44F2-A712-32CBB6CF2710}"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CB5C8D2-8036-413C-820E-7A2DCBF1EE6B}"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72369AC-9F80-4AEA-9910-7A657B883E3E}"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8C80BBD-68C5-43C8-AA50-1D0CE79EDE8C}"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3FB2512-1E70-4376-AA3D-549E2CF5AAAA}"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EED17E1-3DB2-4CC8-BC2B-9D8FC735E958}"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A70AFB8-2B95-4EEB-9968-2BDDE56E3536}"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15EDDFD-E120-4EC7-8485-6EC65430AA94}"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650DFF8-5D42-4F66-8E7C-73A1A5FFE339}"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C5C0CEB-D111-43A2-A0CB-3E0D5E39D7D6}"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92F3886-AACF-41FB-A534-DEACE6ABF177}"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6A18CD3-8BC9-4092-A250-2FE0501190E9}"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9490F91-DEBD-4D60-A0FA-04B07B99C982}"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59883DE-ABC0-4D5E-87B3-43A5859A4742}"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742D254-C276-49A3-99E0-AE4BFAFA1A47}"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D24F339-FDA8-42B1-B754-D63BC23FCDB7}"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A4D8F41-6F18-4DCF-BE95-E68CB21810F5}"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2A6E370-F329-4A9A-BE39-DA1F9E4FFE89}"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983E983-CA85-41FC-BF64-68609C1DBC2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B8525F9-5B11-486D-9AAA-D97A09E55BF7}"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A31B381-9EC6-4901-9747-DC18319A13F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99118BF-F3CE-4610-A770-E428CB3EFDE6}"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06F9C09-0F2E-427E-B654-7866B0CACF74}"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8A709B9-F288-41A3-BB1C-9E4771BC1C7A}"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B4A5BE5-966B-4EB3-9F32-CA8FAF348B60}"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6704C95-45AD-4FBC-9506-3D2CC0873E25}"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BD41170-3B7C-4D07-A4EB-6399B0CB682A}"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DBF3094-50BE-4EA1-A0ED-30594E40F7BB}"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46CAC7A-54F9-4EB2-A628-3D07EEC219D0}"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368D56C-9FA0-484F-B04E-D4E0D8A08257}"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3E5B36E-D9BC-4692-ACA3-1BBAD05C05FA}"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D2F41A1-EFE8-4437-9742-5B2DF37F0497}"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7E53548-31A1-4F24-B73A-90D337515B12}"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768C8BD-749F-4FE7-B3E8-F690B133338C}"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6EBDEAE-010C-4F6F-B738-8C672D9BEE8D}"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4077DD7-9F04-47B5-B361-531165437030}"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4E476D2-B482-4CEC-A13A-32A046C13433}"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1ACC2A4-D5DE-43CB-9B8B-473429E7FDE9}"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A44A160B-B231-473C-A789-40F3818C6878}"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311373E-A79B-4C86-BE87-31848710731D}"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3E81B03-A4CB-43B5-AF1D-250AC35A20B8}"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D86B5D2-1052-43B4-B0FC-1C0A8F7F7536}"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84BEC8F-5DBF-46EE-B902-9467E41ED574}"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CAF6452-252E-42BD-8F02-04CBC83B90B7}"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A93F949-183E-43B6-BA69-B87EC857A47C}"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014AD85-8559-43F1-B649-EBA5A0697784}"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1142712-A6B5-4CE3-8051-ED5325972124}"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27E9963-1075-44A2-9DA6-CE331137D42F}"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94D01F7-3683-4315-9295-8A6CBC7C7941}"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0078A94-81D8-4D07-8D8B-395AAA839BA2}"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C4A4DB2-98ED-4666-9655-922145CD8781}"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8C5B7B4-EE17-4894-A533-0B954C2C0652}"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