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7013"/>
        <c:axId val="15809746"/>
      </c:barChart>
      <c:catAx>
        <c:axId val="9577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09746"/>
        <c:crosses val="autoZero"/>
        <c:auto val="1"/>
        <c:lblAlgn val="ctr"/>
        <c:lblOffset val="100"/>
        <c:noMultiLvlLbl val="0"/>
      </c:catAx>
      <c:valAx>
        <c:axId val="15809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F8C-6EFD-4324-9F12-7E3357E1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9B0-84C0-4EA9-962D-DB79455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F03-AC02-45EA-A4F6-119A858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E36-977F-43B4-A55C-59007893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F4C-BCB9-4F8D-859B-32CCFB15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1AA-313E-47D7-A70F-A272F91E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154-AC16-4928-A7B8-7BBAF027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F58-6A9D-4574-BF34-3CD46CA2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79B-0E08-4862-9D59-EB6E77CD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16D-FDAE-4896-962A-F8D45211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F91-8B17-4DA7-B9A0-3491301E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198-CB8F-41E1-B68B-DE7A12C9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F87CF-0196-41F4-8566-80DF6E4E66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