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430903"/>
        <c:axId val="68458111"/>
      </c:barChart>
      <c:catAx>
        <c:axId val="594309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58111"/>
        <c:crosses val="autoZero"/>
        <c:auto val="1"/>
        <c:lblAlgn val="ctr"/>
        <c:lblOffset val="100"/>
        <c:noMultiLvlLbl val="0"/>
      </c:catAx>
      <c:valAx>
        <c:axId val="684581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309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248B-097B-4C3B-A313-AE6D70F13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72C1-E2C1-4ACA-877B-6431B5A8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7B2B-B600-432C-A90E-A5B1B11EC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0C89-F144-423C-9F60-04B9E2E7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9D6E-903C-460A-9660-6B5F46CA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B626-4C2D-466B-8803-8D8EE000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8AD8-F0DB-4FE6-89F6-794BAF48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86D0-2151-4F21-8FF4-D55F38A3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6930-8735-457A-8DA4-DE48B3BD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2FA8-15DB-42E1-8DA8-967B72C7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C8E7-B05F-4A00-B078-ECEA5108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5D02-3062-4414-B8EE-C12EF771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E1303-5617-4825-87CD-B85752D216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