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800650"/>
        <c:axId val="37414242"/>
      </c:barChart>
      <c:catAx>
        <c:axId val="978006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414242"/>
        <c:crosses val="autoZero"/>
        <c:auto val="1"/>
        <c:lblAlgn val="ctr"/>
        <c:lblOffset val="100"/>
        <c:noMultiLvlLbl val="0"/>
      </c:catAx>
      <c:valAx>
        <c:axId val="374142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8006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552F-3D05-4347-B3F4-B4C37D267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47B8-E760-46E0-ADED-52B6038B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8971-B6E4-4AD3-A562-D855F5CB7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221C-C918-4D5E-AFC7-3F18B0113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E40F-C36D-43E1-AFD4-C27E6640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6BE1-490C-4E0C-BB4A-E60E9B52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81C7-A768-45FC-AF37-220DEDE3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AFF3-0E20-4617-BEEA-699F5A32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5EC6-024D-4ED9-BBF5-42EB9BF6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03F7-BD1F-4078-976A-7C88599B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B9CC-B909-4765-8268-324D4190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2F2C-2672-4BF7-A409-7FA1FDA4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9A707-210A-4AA9-9E42-905622FAEB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