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71450"/>
        <c:axId val="28587516"/>
      </c:barChart>
      <c:catAx>
        <c:axId val="91671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7516"/>
        <c:crosses val="autoZero"/>
        <c:auto val="1"/>
        <c:lblAlgn val="ctr"/>
        <c:lblOffset val="100"/>
        <c:noMultiLvlLbl val="0"/>
      </c:catAx>
      <c:valAx>
        <c:axId val="28587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71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F8C-0B31-4545-A153-4FFD6574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9DF-C2E5-4837-AE5F-2DC3F864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5D3-C7B3-4319-9538-16BE74EB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05C-1502-45DD-B2F0-35F3ACA1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2F8-FDE8-4385-ADE4-0EC8CD8F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A6C-8338-4ACA-8AC3-C5DBA8B7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9BA-6994-4612-935A-79803226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6E7-2766-4E37-B5B8-D32D0ADA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380-DB46-45C6-90BF-D84A0A46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DA2-5F10-4DEB-BD3E-3709B923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833-2C75-410B-B534-996534BE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F46-5BE1-406C-BEE9-03B0FD88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90E94-D7FD-4DB2-92DF-6FDE92D1F6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