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73491"/>
        <c:axId val="34746594"/>
      </c:barChart>
      <c:catAx>
        <c:axId val="86273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46594"/>
        <c:crosses val="autoZero"/>
        <c:auto val="1"/>
        <c:lblAlgn val="ctr"/>
        <c:lblOffset val="100"/>
        <c:noMultiLvlLbl val="0"/>
      </c:catAx>
      <c:valAx>
        <c:axId val="34746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3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2A0-5146-4AA7-B1E1-628CACD5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8A2-EBAC-4EDA-AB98-31353458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1FC-4972-46C5-ADFF-33ED9B3E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AC6-EF2C-4319-99D4-967A48D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BAE-CC5F-4E07-8AB3-A0A37FC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157-5EFD-4531-9FA6-990D7053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B93-44DA-44FE-B972-5B23D4D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89D-A96E-4ADA-96E5-9FCD17DB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9A6-3B5D-4351-9D55-EEF1DF7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6CC-E231-474F-BE55-1DA1A99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BB6-A5EC-4098-951E-AE39953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B09-402B-4EA9-9761-5D4CEC2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F8052-30DC-40A0-876F-96A88D57B6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