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45499"/>
        <c:axId val="61620525"/>
      </c:barChart>
      <c:catAx>
        <c:axId val="29645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20525"/>
        <c:crosses val="autoZero"/>
        <c:auto val="1"/>
        <c:lblAlgn val="ctr"/>
        <c:lblOffset val="100"/>
        <c:noMultiLvlLbl val="0"/>
      </c:catAx>
      <c:valAx>
        <c:axId val="61620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45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238-79C4-497E-9383-000A4BD7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F52-BA02-4903-A3A8-25979973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34D-6D5B-4F43-A52F-FD732436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476-13BF-4DB8-8728-9FA0C4F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A68-DB26-4F4F-98B6-0ACED0F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015-36FF-4DC1-AFBE-9502E3C0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EA2-79CA-473E-848C-1B3A6A1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DA7-5785-4C8B-949B-E64A619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3CB-E17F-4B38-A4CA-DFC3CE94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3DA-4889-4EA0-9549-13A95190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EB4-60F5-4B4C-848E-59E7150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90F-84CC-4176-88F2-E6651E6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DE75E-BF99-4EDF-816B-1B0346CD1A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