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15832"/>
        <c:axId val="57194466"/>
      </c:barChart>
      <c:catAx>
        <c:axId val="53815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4466"/>
        <c:crosses val="autoZero"/>
        <c:auto val="1"/>
        <c:lblAlgn val="ctr"/>
        <c:lblOffset val="100"/>
        <c:noMultiLvlLbl val="0"/>
      </c:catAx>
      <c:valAx>
        <c:axId val="57194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15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739-D4A2-46D1-AE13-E408025B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BE-FB13-462E-A6DA-CFAE7224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751-8A40-4040-AD7C-301D80A7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02C-0519-42E2-A82F-009B2DBE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B35-A1F9-4CA4-9660-7C68B6A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794-81C1-4A4A-9882-1DAAF8A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312-A95A-4996-83CE-60CC55B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473-27A6-46CC-B5CB-3A08CD9F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E20-0ED1-41E4-899D-157C99F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1D2-5CFE-4992-8FA1-3832DD3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966-C150-4F89-8B5C-A48E6D5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5B2-FEF7-40FA-93D2-5C547515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9840C-E1B5-4F6E-955E-73506708B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