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64020"/>
        <c:axId val="88780556"/>
      </c:barChart>
      <c:catAx>
        <c:axId val="46964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80556"/>
        <c:crosses val="autoZero"/>
        <c:auto val="1"/>
        <c:lblAlgn val="ctr"/>
        <c:lblOffset val="100"/>
        <c:noMultiLvlLbl val="0"/>
      </c:catAx>
      <c:valAx>
        <c:axId val="88780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64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436-0C81-48E6-86A5-71E527A7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9BF-3BA7-4247-A570-FE909561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EBAB-FCC8-4C50-916A-2B74D1E6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1A3C-C82A-4E41-9422-73176138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554-36BC-436A-939D-989B264D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4CB4-0EDD-4A4F-9E7D-DD40FEA2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85D-A525-49E1-90FA-0831131A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A13-3D9F-43FA-8B4E-96C4F859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4B0-134E-4366-B833-78604756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7CA-BC84-4145-BAB6-0FF0E7B8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1C4-5198-49AE-BD0A-43064049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3E6-25A0-4AE0-9B7D-97839193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7BFD1-2A83-40E2-A45E-57419FB3FB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