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125418"/>
        <c:axId val="5406490"/>
      </c:barChart>
      <c:catAx>
        <c:axId val="691254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06490"/>
        <c:crosses val="autoZero"/>
        <c:auto val="1"/>
        <c:lblAlgn val="ctr"/>
        <c:lblOffset val="100"/>
        <c:noMultiLvlLbl val="0"/>
      </c:catAx>
      <c:valAx>
        <c:axId val="54064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1254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2D18-83E6-4464-9CA0-C2A664C00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EC54-DE69-4462-A8FD-586487B7D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C076-5B38-4F7F-90FD-A41F34F17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E2F6-1BD4-4A15-ACFB-AD446FAFE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F204-A3EB-498A-A4F3-36AA313CC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B0B3-EC22-4FEA-8D43-EBD949A8A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2177-CD2A-462F-B118-4681785D3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D366-165C-476E-B165-D78EC01EB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77EF-A39D-4398-A09D-0207E6EC8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0C0F-0989-45BF-9DE9-59BE7ACE5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6AE5-50AD-4B46-8E07-10016D1EF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F482-44C8-44CC-BDB7-1DB355943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97CA76-8DFF-4C22-BCA7-7B08EC2A6FF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