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46818"/>
        <c:axId val="81120732"/>
      </c:barChart>
      <c:catAx>
        <c:axId val="43468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20732"/>
        <c:crosses val="autoZero"/>
        <c:auto val="1"/>
        <c:lblAlgn val="ctr"/>
        <c:lblOffset val="100"/>
        <c:noMultiLvlLbl val="0"/>
      </c:catAx>
      <c:valAx>
        <c:axId val="811207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68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97D-FBF3-49F4-AF06-6ADA7264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A6C9-53E6-476A-A4BD-1D7D017F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CC1F-D92B-4212-8FD1-4A7C905CF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84E6-4203-4627-96AD-6CD95CF8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ED1A-9083-4051-A414-54A3E493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E47B-FDCD-4EF4-B3B8-7674D74D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89C3-2BC3-493C-A0C3-5A98C777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0577-D557-4B1E-8041-28BE5994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CA30-0D00-4404-8E2A-91BB11F2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695D-2BCD-4B70-875F-43639D7E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5D9B-06D8-4225-BFAD-BBF83F6F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EA35-E760-4339-9B2D-461B370C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CAED6-D8B9-4FC8-BE1A-D05EF4831B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