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17892"/>
        <c:axId val="74322784"/>
      </c:barChart>
      <c:catAx>
        <c:axId val="23117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22784"/>
        <c:crosses val="autoZero"/>
        <c:auto val="1"/>
        <c:lblAlgn val="ctr"/>
        <c:lblOffset val="100"/>
        <c:noMultiLvlLbl val="0"/>
      </c:catAx>
      <c:valAx>
        <c:axId val="74322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17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28F-E060-489B-9A72-6B452AFB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B80-95BC-4044-BB1A-8BCDBDA7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D55-698E-46F5-8911-3F4E9C70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7AB-8171-4C68-A2D5-A4E34356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059-5211-4F55-A13F-F7D5A4AC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467-F872-4F5D-9365-3D554551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D95-1251-484D-81DF-15877CE8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8E5-BA40-404F-94FE-427A8F8E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273-E9F8-443A-B23B-B378EF58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803-9A6F-462D-B84F-4AEC7517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DF4-EAF7-4FA2-9B71-94B6DCC6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FD1-CD7F-48A8-8804-02FF4C9B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8D7AF-A886-4BEC-A700-7DA0765118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