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0658"/>
        <c:axId val="96685961"/>
      </c:barChart>
      <c:catAx>
        <c:axId val="4800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5961"/>
        <c:crosses val="autoZero"/>
        <c:auto val="1"/>
        <c:lblAlgn val="ctr"/>
        <c:lblOffset val="100"/>
        <c:noMultiLvlLbl val="0"/>
      </c:catAx>
      <c:valAx>
        <c:axId val="96685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D97-CE56-41F5-88DD-F832698E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142-6068-4CF0-9FC2-6E0952B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77D-C9EB-4D00-9CEF-7F430B35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763-9291-4F50-8862-06D55AC0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751-FFFD-48C1-804B-A446808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77F-FEAC-49A6-B538-8AE1C3F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451-D93C-4225-974B-A03D27DB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AEF-34DA-46BA-8FA8-2BA15B6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1D4-36BD-4311-B046-E9425A9D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718-605A-48E7-A64C-62A0F360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C65-9F5A-4CDB-B6F1-0B1CC09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35D-1E92-4902-97F0-E1A8310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A5040-7644-49A1-A3F7-025F125BE8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