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76018"/>
        <c:axId val="29170618"/>
      </c:barChart>
      <c:catAx>
        <c:axId val="52076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70618"/>
        <c:crosses val="autoZero"/>
        <c:auto val="1"/>
        <c:lblAlgn val="ctr"/>
        <c:lblOffset val="100"/>
        <c:noMultiLvlLbl val="0"/>
      </c:catAx>
      <c:valAx>
        <c:axId val="29170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76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E7C-CD46-4B3B-8ACE-8D8843C2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D7A-8FB1-4C60-9E59-3210323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F2C-E853-4908-8817-0BC63314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A29-8854-4E7D-92CE-C0FA0E8B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D2D-37AE-4E59-BC28-AC25A9D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C40-92B0-47AE-9FB7-482877F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CA5-70DC-4A2A-A4FA-A839CE71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32D-A10C-45D8-B82C-70011642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B1D-BD30-440B-AF00-8627A52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DBD-181A-4D94-9753-47080BDF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ADB-5551-4E95-92C8-AF8B863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03A-3327-40C6-B9CB-5360E19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14F5-07C8-4475-B7E1-8BA5FB84C1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