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247265"/>
        <c:axId val="16882036"/>
      </c:barChart>
      <c:catAx>
        <c:axId val="842472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882036"/>
        <c:crosses val="autoZero"/>
        <c:auto val="1"/>
        <c:lblAlgn val="ctr"/>
        <c:lblOffset val="100"/>
        <c:noMultiLvlLbl val="0"/>
      </c:catAx>
      <c:valAx>
        <c:axId val="168820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472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6D29-1F17-443D-8631-2F0CFA3E7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8FB0-3F1D-42F4-BE87-CFF69105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86B7-9464-4B89-9ED7-78A0D2A5B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9233-4ECD-4933-A9D7-7BEB2BBBE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5173-820E-4EED-AB67-A04849A6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025E-9F2F-4779-8511-9F3662EA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ECE5-AF01-4151-8A48-CC23091E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7837-D61A-45A2-90CE-8428FA02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8CAD-21C8-4F23-AC62-C46B3AAE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AB76-0B89-4210-9E29-37B06A24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F0C5-58ED-484E-B8EC-C2F1B119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433F-0B06-44EA-AB22-8DFF9F99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A98B6D-33CA-419B-9608-071463CC5F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