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35231"/>
        <c:axId val="85436159"/>
      </c:barChart>
      <c:catAx>
        <c:axId val="78035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36159"/>
        <c:crosses val="autoZero"/>
        <c:auto val="1"/>
        <c:lblAlgn val="ctr"/>
        <c:lblOffset val="100"/>
        <c:noMultiLvlLbl val="0"/>
      </c:catAx>
      <c:valAx>
        <c:axId val="85436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35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981-A2FE-4C57-A92F-4A9FA6F9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31A-CA3D-479B-BEC2-AA43826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90C-BBB5-489A-8D38-78C895A1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00F-49FC-4422-8174-0F1D3E31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D83-0338-4DA4-BED1-CBDF3472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6A7-61C2-450C-BB11-06968D6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E9E5-EAD7-4D1B-ADDB-92CB1F2C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F3A-577C-4F26-87C3-12196A5B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C28-3B72-48CC-8BBB-E4FDE968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15B-5E6C-4935-BD9A-9AE5D7C8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F52-E6F4-4FF4-9821-983CF903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672-9A43-4900-8FB1-8050B841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2B617-0ABF-4749-8DF2-FA63669676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