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38549"/>
        <c:axId val="85404856"/>
      </c:barChart>
      <c:catAx>
        <c:axId val="86638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04856"/>
        <c:crosses val="autoZero"/>
        <c:auto val="1"/>
        <c:lblAlgn val="ctr"/>
        <c:lblOffset val="100"/>
        <c:noMultiLvlLbl val="0"/>
      </c:catAx>
      <c:valAx>
        <c:axId val="85404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38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B3D-1838-40E0-80E7-B39D3DAB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541-D1FA-4407-A3CD-4A4A98A8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89C-B5BD-4DD7-BA91-89651443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034-D9AE-4413-B1C1-42100602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50B-628B-4179-9DCE-3FCB7644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A33-653B-4A6D-B21A-725BC05B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A49-324C-40B2-9627-28450216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CBF-95E0-461D-82F8-0132EAA2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06B-F88E-42AF-914D-A462E05F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03A-BCDA-40D4-A8A9-37784692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285-5014-411B-801E-F63114A7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380-CDCC-4162-963F-29AB3B72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FD569-6D26-468B-A353-6320FE7BCD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