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52666"/>
        <c:axId val="29604919"/>
      </c:barChart>
      <c:catAx>
        <c:axId val="96952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04919"/>
        <c:crosses val="autoZero"/>
        <c:auto val="1"/>
        <c:lblAlgn val="ctr"/>
        <c:lblOffset val="100"/>
        <c:noMultiLvlLbl val="0"/>
      </c:catAx>
      <c:valAx>
        <c:axId val="29604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2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FB2-D6D7-4271-9809-2CF55EAC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BFA-DBE1-4F14-B0A3-DB86AA3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EE5-8A4B-44C1-8567-47DD3E28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AF1-F3A9-4AB5-8400-6B1C1BAF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1C7-32A5-4156-B353-CFEC530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366-478F-4D66-B103-046FF84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D82-BDFA-4248-ADE1-62CBCD5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170-E53A-4502-9286-A22C2D7A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4D8-4C5B-4780-9E4C-2B9E493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EC5-F1B1-4275-B56B-7710022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D41-3278-41B9-9FD2-F63D659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205-2AB9-4A24-80CC-28C1508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E693D-D1D3-4FC2-9E05-0C8557D4E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