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36095"/>
        <c:axId val="53006257"/>
      </c:barChart>
      <c:catAx>
        <c:axId val="66236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06257"/>
        <c:crosses val="autoZero"/>
        <c:auto val="1"/>
        <c:lblAlgn val="ctr"/>
        <c:lblOffset val="100"/>
        <c:noMultiLvlLbl val="0"/>
      </c:catAx>
      <c:valAx>
        <c:axId val="53006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36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37C-D3EF-4EE6-8D40-78858DC7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736-E4FC-4DCE-80C5-96052E7B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49D-AD86-404A-8C3F-1E9E0E02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DE6-309E-4CCA-8EE5-D9CC3A40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4C0-4F7C-408C-94F0-210E7439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44B-6B15-4112-BFF4-978DD3A8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D55-65DC-4C89-BDFB-76784035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337-44F6-458B-94BE-0B359F6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B59-9731-448D-AED6-34DD812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5DF-AE3C-4BB0-8EC7-2FDC85C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109-BC3D-4FB2-9D57-E38EC073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45C-C45F-45BA-926A-ED20DB1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B7988-CD65-42F9-B5EC-48D9BA0DD4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