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72547"/>
        <c:axId val="58558751"/>
      </c:barChart>
      <c:catAx>
        <c:axId val="82972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58751"/>
        <c:crosses val="autoZero"/>
        <c:auto val="1"/>
        <c:lblAlgn val="ctr"/>
        <c:lblOffset val="100"/>
        <c:noMultiLvlLbl val="0"/>
      </c:catAx>
      <c:valAx>
        <c:axId val="58558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72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F2F-08A3-4B42-BB13-A1E741CD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FE0-DA19-4334-BDF8-A8A1F65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0C3-B0F9-44F4-B1CA-DED22884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0D0-3869-4A71-A491-6C59474C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0D4-0A82-4A34-B9CA-03DEEBA6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667-9EE9-4762-A049-31356D9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E3D-EB86-4AC3-B28E-7141131D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E1E-6BFD-4B98-9F12-7BE813A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53A-7627-4D49-952F-47539447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05C-3601-4CFB-B922-045EF8A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38C-018A-4454-950A-3AA79F7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EA6-0BC1-42D9-B32C-6F55BBDD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5238C-A7B4-4780-BA8C-AC8D6D2BD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