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36618"/>
        <c:axId val="13862268"/>
      </c:barChart>
      <c:catAx>
        <c:axId val="48236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62268"/>
        <c:crosses val="autoZero"/>
        <c:auto val="1"/>
        <c:lblAlgn val="ctr"/>
        <c:lblOffset val="100"/>
        <c:noMultiLvlLbl val="0"/>
      </c:catAx>
      <c:valAx>
        <c:axId val="13862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36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137-120B-4AF0-9443-37976CEA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B80-469A-4914-BEDC-04227B8C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D41-1CB7-4A64-B29F-25B1337E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1C5-1FCA-43BE-8153-D892EF83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368-F9C3-4B13-9B33-833C195D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39F-BCD4-4ADC-80D2-D59C4B5F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A4F-48A8-4582-B084-4D2EE17D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46D-9735-44DF-9A67-708AA011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FFA-C355-456A-B4E9-90DD7155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4FC-24B7-43F9-BE7D-C287F08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621-9D75-4B38-98D6-C22554AE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6CF-48F1-40C1-8EF5-8597D0A9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92FF4-380C-4C3A-A0D6-AF75D97379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