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67079"/>
        <c:axId val="57853526"/>
      </c:barChart>
      <c:catAx>
        <c:axId val="84067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53526"/>
        <c:crosses val="autoZero"/>
        <c:auto val="1"/>
        <c:lblAlgn val="ctr"/>
        <c:lblOffset val="100"/>
        <c:noMultiLvlLbl val="0"/>
      </c:catAx>
      <c:valAx>
        <c:axId val="57853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7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0F1-A0A2-4ECA-82D2-E7BD3906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DDF-F0C8-4435-8D57-0D25E70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A79-8703-43C4-8EDB-2AA4381A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567-9F66-4231-99AF-53092A93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9DF-EE71-4B11-A390-6F54463E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85E-4C0D-4D00-B692-2B2C98FA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A6C-8606-49C9-92CE-DB59E80A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515-DF67-4A8F-9EA5-DDBF9C7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93C-DBB7-4C99-BDBC-C8091FF2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9AD-5401-4E9B-9840-23FB4D8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35C-1F33-47AB-A5B1-2F13809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89A-5892-48C1-87E4-AE8CB48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E50D-2DC3-40CF-9F1A-C78910D21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