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283489"/>
        <c:axId val="29376149"/>
      </c:barChart>
      <c:catAx>
        <c:axId val="962834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76149"/>
        <c:crosses val="autoZero"/>
        <c:auto val="1"/>
        <c:lblAlgn val="ctr"/>
        <c:lblOffset val="100"/>
        <c:noMultiLvlLbl val="0"/>
      </c:catAx>
      <c:valAx>
        <c:axId val="293761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834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AF9F-AE5E-4658-B007-EB23305B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DB07-890B-4A33-A465-9C5AF4EE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5541-DBB4-4834-9787-5CA2F238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142A-DBD0-4920-849D-89292B7C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6D6A-3C06-446B-80C9-415F259C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DC3D-C9AC-442E-8197-64346F8B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86AF-67F1-4898-B393-6621AC87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DD1E-C549-4506-93BA-DE7D7FDF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9DB4-0CA0-4641-A4EF-E2613DEB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0FE2-7CD5-4223-8C47-341845C4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0189-EE28-4833-BDF2-0463C017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5350-9AAD-449C-A982-514D23C2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D9448-8744-4904-9E7F-D736B96B2F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